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0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14A6-CE79-4D7A-BB9E-698C10877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9A03-97FD-419D-9EA9-862329013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E09D-A30F-4141-950D-8443CCFE9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566C-B908-4E76-9042-0E61862E5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D41BB-36D7-4165-8D00-D3EBD9A27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36A36-D4CF-4490-B1EB-A07D6B90E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D1E9E-2925-4C21-9B95-4801D64E1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8C42B-B3A0-4367-A883-11278658C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4CFC3-62BA-44FF-9F33-3080D1725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378BE-9CB2-4827-BB04-9DBD6079A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BC603-2587-4E5A-995C-90FEE771F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4249-3746-4B03-8C26-89606ADBE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3A7C5-C75A-4A00-B469-3945C7AD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470D9-89D4-4319-80D9-8447C54D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A93C6-D06D-4C60-808E-BB0EC53FD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BE6D2-E54A-4E45-9B98-180FECEEC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A1BFC-4DD7-4342-930F-16711DCA0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C360-D457-4D65-B7BC-BFF24DDF6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CC73-A422-44B0-9848-B24CF9D5D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71C5-7E0A-417D-8A13-B4E8CDB51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EE65-15E1-4A4E-B6B2-7596D9A13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093F-37EA-447C-95FC-4E259D4FC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3784-DC1E-46EB-9589-44A1C2685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B6C7-9F3B-47B2-B601-739523469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552E1-6FAF-4788-B3A8-971E8C50034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E1A0A-CD75-4032-ADA1-602B60A2D8C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ntonio.abreu@bancomoc.mz" TargetMode="External"/><Relationship Id="rId2" Type="http://schemas.openxmlformats.org/officeDocument/2006/relationships/hyperlink" Target="mailto:tobreutt@yahoo.com.brm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89000"/>
            <a:ext cx="7620120" cy="32400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Moçambique: sistema financeiro nos últimos 20 anos – realidades e perspecti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411280" y="4076280"/>
            <a:ext cx="6400800" cy="180036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Tópicos para uma conversa com gestores bancários e diferentes agentes económicos no IFBM – 28/10/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000000"/>
                </a:solidFill>
                <a:latin typeface="Arial"/>
              </a:rPr>
              <a:t>António Pinto de Abr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 u="sng">
                <a:solidFill>
                  <a:srgbClr val="e4005c"/>
                </a:solidFill>
                <a:uFillTx/>
                <a:latin typeface="Arial"/>
                <a:hlinkClick r:id="rId1"/>
              </a:rPr>
              <a:t>antonio.abreu@bancomoc.m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 u="sng">
                <a:solidFill>
                  <a:srgbClr val="e4005c"/>
                </a:solidFill>
                <a:uFillTx/>
                <a:latin typeface="Arial"/>
                <a:hlinkClick r:id="rId2"/>
              </a:rPr>
              <a:t>tobreutt@yahoo.com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Cronologia da evolução do Sistema Financeiro em Moçambique de 1985 a 2005 (6)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38280" y="1916280"/>
            <a:ext cx="6400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1991 – 1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 u="sng">
                <a:solidFill>
                  <a:srgbClr val="000000"/>
                </a:solidFill>
                <a:uFillTx/>
                <a:latin typeface="Arial"/>
              </a:rPr>
              <a:t>Período de reforma do Sistema Financeiro no contexto do PRES 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orma de instrumentos de polític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de Abril de 1992 – unificação entre as taxas de câmbio do mercado oficial e do MSC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iberalização das taxas de câmb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iso 6/GGBM/93 – determina taxas de juro máximas e mínimas fixadas administrativa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iso 9/GGBM/94 – liberaliza as taxas de juro activas e pass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iso 4/GGBM/96 – formaliza o Mercado Cambial Interbancário (MC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iso 12/GGBM/97 – cria o Mercado Monetário Interbancário (MM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o quantitativo do crédito através de limites de Activos Internos Líqu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Cronologia da evolução do Sistema Financeiro em Moçambique de 1985 a 2005 (7)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438280" y="1773000"/>
            <a:ext cx="6400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1999 –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Período de reforma do Sistema Financeiro no contexto do PARPA 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orma jurídico-leg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i 15/99 – Regula o estabelecimento e o exercício da actividade das instituições de crédito e das sociedades financeiras – preconiza a constituição do fundo de garantia de reembolso de depósi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reto 48/2001 – regula a actividade dos auditores externos das IC’s e SF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i 09/2004 – revê algumas das disposições da Lei 15/99, nomeadamente dando poderes ao BM para licenciar e mandar fechar IC’s e SF’s e permitindo a criação de novos tipos de instituições financie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Cronologia da evolução do Sistema Financeiro em Moçambique de 1985 a 2005 (8)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438280" y="1628640"/>
            <a:ext cx="64008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1999 –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 u="sng">
                <a:solidFill>
                  <a:srgbClr val="000000"/>
                </a:solidFill>
                <a:uFillTx/>
                <a:latin typeface="Arial"/>
              </a:rPr>
              <a:t>Período de reforma do Sistema Financeiro no contexto do PARPA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orma jurídico-institucion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to 54/99 – regula a constituição e o funcionamento dos fundos de investimen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to 56/99 – regula a constituição e o funcionamento dos fundos de investimento de capital de risc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to 56/2004 – regula o funcionamento das instituições mirofinanceiras e da actividade de microfinanç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Cronologia da evolução do Sistema Financeiro em Moçambique de 1985 a 2005 (9)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438280" y="1844280"/>
            <a:ext cx="6400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1999 –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Período de reforma do Sistema Financeiro no contexto do PARPA (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orma de instrumentos de políti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0 – controlo da oferta monetária deixa de ser exercido através de limites quantitativos e passa a ser feito por via das operações de MM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5 – introduz-se o sistema multilateral de determinação das taxas de câmbio do MCI e de leilões de divisa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5 – controlo da oferta monetária passa a ser feito através da combinação entre operações do MMI e as do M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Cronologia da evolução do Sistema Financeiro em Moçambique de 1985 a 2005 (10)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438280" y="1844280"/>
            <a:ext cx="6400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Algumas mudanças resultantes da reforma do sistema financeir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eralização da actividade de intermediação financeira e maior integração interna entre diferentes seg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ção ou eliminação do monopólio do estado no sector financei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ersificação institucional e funcional do sector financei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or abertura do sector financeiro ao mercado inter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rnização do sistema financei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Alguns Indicadores da realidade actual do Sistema Financeiro em Moçambique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6400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ipo de institui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Evolução do número de institui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de geográfic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Das institui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Das ATM´s e POS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mportância da intermediação financeir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Moeda sobre o P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rédito sobre o P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Depósitos a prazo sobre total de moe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Numerário em circul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0" y="0"/>
          <a:ext cx="9067680" cy="6858000"/>
        </p:xfrm>
        <a:graphic>
          <a:graphicData uri="http://schemas.openxmlformats.org/drawingml/2006/table">
            <a:tbl>
              <a:tblPr/>
              <a:tblGrid>
                <a:gridCol w="2971800"/>
                <a:gridCol w="1219320"/>
                <a:gridCol w="1143000"/>
                <a:gridCol w="1218960"/>
                <a:gridCol w="1295640"/>
                <a:gridCol w="1218960"/>
              </a:tblGrid>
              <a:tr h="171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úmero de Instituições por ano selecciona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cos comerciais e de investimen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perativas de crédi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dores de microcrédi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4724280"/>
                <a:gridCol w="1600200"/>
                <a:gridCol w="1447920"/>
                <a:gridCol w="1371600"/>
              </a:tblGrid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e bancária por provín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puto (Cidade+província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z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hamb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i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fal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mbéz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pul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bo Delga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as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349880" y="1143000"/>
            <a:ext cx="4038480" cy="419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6" name=""/>
          <p:cNvGraphicFramePr/>
          <p:nvPr/>
        </p:nvGraphicFramePr>
        <p:xfrm>
          <a:off x="4533840" y="2500200"/>
          <a:ext cx="3098880" cy="2759040"/>
        </p:xfrm>
        <a:graphic>
          <a:graphicData uri="http://schemas.openxmlformats.org/drawingml/2006/table">
            <a:tbl>
              <a:tblPr/>
              <a:tblGrid>
                <a:gridCol w="3098880"/>
              </a:tblGrid>
              <a:tr h="294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3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716440" y="3048120"/>
            <a:ext cx="1447920" cy="10666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6932520" y="1752480"/>
            <a:ext cx="1600200" cy="917640"/>
          </a:xfrm>
          <a:prstGeom prst="rect">
            <a:avLst/>
          </a:prstGeom>
          <a:ln w="0">
            <a:noFill/>
          </a:ln>
        </p:spPr>
      </p:pic>
      <p:pic>
        <p:nvPicPr>
          <p:cNvPr id="129" name="BANCOG" descr=""/>
          <p:cNvPicPr/>
          <p:nvPr/>
        </p:nvPicPr>
        <p:blipFill>
          <a:blip r:embed="rId4"/>
          <a:stretch/>
        </p:blipFill>
        <p:spPr>
          <a:xfrm>
            <a:off x="5487840" y="4800600"/>
            <a:ext cx="955800" cy="11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0" y="0"/>
          <a:ext cx="9144000" cy="6950160"/>
        </p:xfrm>
        <a:graphic>
          <a:graphicData uri="http://schemas.openxmlformats.org/drawingml/2006/table">
            <a:tbl>
              <a:tblPr/>
              <a:tblGrid>
                <a:gridCol w="4267080"/>
                <a:gridCol w="2590920"/>
                <a:gridCol w="22860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Ms E POSs POR PROVÍNCIA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004-200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004-200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puto (Cidad+Provinc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z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hamb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i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fal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mbéz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pul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bo Delga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as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11280" y="0"/>
            <a:ext cx="640080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8c0039"/>
                </a:solidFill>
                <a:latin typeface="Arial"/>
              </a:rPr>
              <a:t>Razões pelas quais aceitei preparar os tópicos para esta conversa?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7920" y="1557000"/>
            <a:ext cx="3646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O Banco de Moçambique – a nossa autoridade monetária, financeira e cambial –  completou este ano 30 anos de existê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A evolução do sistema financeiro tem vindo a ser suficientemente documentada nos últimos an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Há relatórios periódicos do B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Há relatórios periódicos das IC’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Há outras publicações e trabalhos sobre a maté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Existem estatísticas disponíveis para fazer interessantes estudos de caso e análises de séries temporais long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Nos últimos 20 anos, o sistema financeiro tem operado uma série de mudanças filosóficas e estruturais profundas que importa analisar e sintetis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Há desafios, presentes e futuros, para o sistema financeiro que urge equacionar e perspectivar, sobretudo entre nós bancár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300720" y="2421000"/>
            <a:ext cx="2592360" cy="23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0" y="228600"/>
          <a:ext cx="9144000" cy="6629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8600"/>
                    <a:ext cx="914400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8351640" cy="561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8c0039"/>
                </a:solidFill>
                <a:latin typeface="Arial"/>
              </a:rPr>
              <a:t>Oferta monetária e creditícia sobre o PIB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2268360" y="1413000"/>
          <a:ext cx="6875640" cy="544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1413000"/>
                    <a:ext cx="6875640" cy="54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8c0039"/>
                </a:solidFill>
                <a:latin typeface="Arial"/>
              </a:rPr>
              <a:t>Desafios e perspectiva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438280" y="1197000"/>
            <a:ext cx="6400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nsolidação do STF e introdução do RT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Nova família do Me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ntrodução e implementação dos IFRS e dos 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largamento do sector financei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Diferenciação geográfica dos capitais mínim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Diferenciação institucional dos capitais mínim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Serviços electrônic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Externalização de alguns serviços bancár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icrofinanças e estabilidade do sector financei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Supervisão e Corporate Govern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Dolariza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●    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ercado Monetário/Mercado de Capitais e curvas de rendimento de mais   longo pra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Aprofundamento das operações interbancárias do MMI e sobretudo do M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Instrumentos financeiros e a questão fis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As operações do Estado e a previsibilidade do volume de operações na BV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nsolidação da transparência na concepção e implementação da política monetá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ntegração regional e globaliz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438280" y="-360"/>
            <a:ext cx="64008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8c0039"/>
                </a:solidFill>
                <a:latin typeface="Arial"/>
              </a:rPr>
              <a:t>Bibliografia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438280" y="907920"/>
            <a:ext cx="64008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Arial"/>
              </a:rPr>
              <a:t>Banco 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de Moçambique, </a:t>
            </a:r>
            <a:r>
              <a:rPr b="0" i="1" lang="pt-PT" sz="1600" spc="-1" strike="noStrike">
                <a:solidFill>
                  <a:srgbClr val="000000"/>
                </a:solidFill>
                <a:latin typeface="Arial"/>
              </a:rPr>
              <a:t>Relatório Semestral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, Junho de 2005, Departamento de Supervisão Bancária, Maput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Arial"/>
              </a:rPr>
              <a:t>Cavaleiro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, Adelaide, </a:t>
            </a:r>
            <a:r>
              <a:rPr b="0" i="1" lang="pt-PT" sz="1600" spc="-1" strike="noStrike">
                <a:solidFill>
                  <a:srgbClr val="000000"/>
                </a:solidFill>
                <a:latin typeface="Arial"/>
              </a:rPr>
              <a:t>A estabilidade do Sistema Financeiro e o Papel dos Bancos Centrais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, Banco de Portugal, 24/09/2002, Departamento de Supervisão Bancária, Lisbo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Arial"/>
              </a:rPr>
              <a:t>De Abreu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, António Pinto, </a:t>
            </a:r>
            <a:r>
              <a:rPr b="0" i="1" lang="pt-PT" sz="1600" spc="-1" strike="noStrike">
                <a:solidFill>
                  <a:srgbClr val="000000"/>
                </a:solidFill>
                <a:latin typeface="Arial"/>
              </a:rPr>
              <a:t>Sistema Financeiro em Moçambique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, Revista Xitimela nº 7, Janeiro-Junho de 1999, CFM, Maput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Arial"/>
              </a:rPr>
              <a:t>De Abreu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, António Pinto e </a:t>
            </a:r>
            <a:r>
              <a:rPr b="1" lang="pt-PT" sz="1600" spc="-1" strike="noStrike">
                <a:solidFill>
                  <a:srgbClr val="000000"/>
                </a:solidFill>
                <a:latin typeface="Arial"/>
              </a:rPr>
              <a:t>Baltazar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, Ruy Affonso, </a:t>
            </a:r>
            <a:r>
              <a:rPr b="0" i="1" lang="pt-PT" sz="1600" spc="-1" strike="noStrike">
                <a:solidFill>
                  <a:srgbClr val="000000"/>
                </a:solidFill>
                <a:latin typeface="Arial"/>
              </a:rPr>
              <a:t>Uma leitura compreensiva das políticas cambial e de comércio externo em Moçambique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, Revista Economia – 2ª Série, nº 5, Agosto de 1991, Maput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Arial"/>
              </a:rPr>
              <a:t>De Abreu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, Silvina Rodrigues, </a:t>
            </a:r>
            <a:r>
              <a:rPr b="0" i="1" lang="pt-PT" sz="1600" spc="-1" strike="noStrike">
                <a:solidFill>
                  <a:srgbClr val="000000"/>
                </a:solidFill>
                <a:latin typeface="Arial"/>
              </a:rPr>
              <a:t>O papel das taxas de juro em programas de ajustamento macroeconómico com restrições creditícias e mercado financeiro em processo de reforma: o caso moçambicano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, Staff Paper nº 3, Banco de Moçambique, Junho de 1996, Maput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Arial"/>
              </a:rPr>
              <a:t>De Sousa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, Waldemar Fernando, </a:t>
            </a:r>
            <a:r>
              <a:rPr b="0" i="1" lang="pt-PT" sz="1600" spc="-1" strike="noStrike">
                <a:solidFill>
                  <a:srgbClr val="000000"/>
                </a:solidFill>
                <a:latin typeface="Arial"/>
              </a:rPr>
              <a:t>Contribuição para a análise do impacto da unificação cambial em Moçambique (Março/92-Março/93)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, Staff Paper nº 2, Banco de Moçambique, Setembro de 1993, Maput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Arial"/>
              </a:rPr>
              <a:t>Maleiane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, Adriano Afonso, </a:t>
            </a:r>
            <a:r>
              <a:rPr b="0" i="1" lang="pt-PT" sz="1600" spc="-1" strike="noStrike">
                <a:solidFill>
                  <a:srgbClr val="000000"/>
                </a:solidFill>
                <a:latin typeface="Arial"/>
              </a:rPr>
              <a:t>Moçambique: as etapas da programação do crédito no contexto do programa de reabilitação económica e social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, Staff Paper nº 6, Banco de Moçambique, Março de 1997, Maput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Arial"/>
              </a:rPr>
              <a:t>Pimpão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, Adelino Jeque, </a:t>
            </a:r>
            <a:r>
              <a:rPr b="0" i="1" lang="pt-PT" sz="1600" spc="-1" strike="noStrike">
                <a:solidFill>
                  <a:srgbClr val="000000"/>
                </a:solidFill>
                <a:latin typeface="Arial"/>
              </a:rPr>
              <a:t>Cronologia dos principais desenvolvimentos da política cambial em Moçambique: Junho de 1975 a Junho de 1996)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, Staff Paper nº 4, Banco de Moçambique, Setembro de 1996, Maput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4008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8c0039"/>
                </a:solidFill>
                <a:latin typeface="Arial"/>
              </a:rPr>
              <a:t>Estrutura da apresentação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38280" y="1341000"/>
            <a:ext cx="6400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istema financei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uma síntese concep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nologia da evolução do Sistema Financeiro em Moçambique de 1985 a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uns Indicadores da realidade actual do Sistema Financeiro em Moçambiqu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afios e perspec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11280" y="260280"/>
            <a:ext cx="6400800" cy="8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8c0039"/>
                </a:solidFill>
                <a:latin typeface="Arial"/>
              </a:rPr>
              <a:t>SISTEMA FINANCEIRO: uma síntese conceptual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3470040" y="1670040"/>
            <a:ext cx="4267440" cy="4267440"/>
            <a:chOff x="3470040" y="1670040"/>
            <a:chExt cx="4267440" cy="4267440"/>
          </a:xfrm>
        </p:grpSpPr>
        <p:sp>
          <p:nvSpPr>
            <p:cNvPr id="95" name="_s212997"/>
            <p:cNvSpPr/>
            <p:nvPr/>
          </p:nvSpPr>
          <p:spPr>
            <a:xfrm>
              <a:off x="4041720" y="2241720"/>
              <a:ext cx="3124080" cy="312408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212998"/>
            <p:cNvSpPr/>
            <p:nvPr/>
          </p:nvSpPr>
          <p:spPr>
            <a:xfrm rot="7200000">
              <a:off x="4041360" y="2241720"/>
              <a:ext cx="3124080" cy="312408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212999"/>
            <p:cNvSpPr/>
            <p:nvPr/>
          </p:nvSpPr>
          <p:spPr>
            <a:xfrm rot="14400000">
              <a:off x="4041720" y="2241360"/>
              <a:ext cx="3124080" cy="312408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213000"/>
            <p:cNvSpPr/>
            <p:nvPr/>
          </p:nvSpPr>
          <p:spPr>
            <a:xfrm>
              <a:off x="6254640" y="2676600"/>
              <a:ext cx="95256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000000"/>
                  </a:solidFill>
                  <a:latin typeface="Arial"/>
                </a:rPr>
                <a:t>Autoridades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000000"/>
                  </a:solidFill>
                  <a:latin typeface="Arial"/>
                </a:rPr>
                <a:t>Políticas; Le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000000"/>
                  </a:solidFill>
                  <a:latin typeface="Arial"/>
                </a:rPr>
                <a:t>Regulamen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213001"/>
            <p:cNvSpPr/>
            <p:nvPr/>
          </p:nvSpPr>
          <p:spPr>
            <a:xfrm>
              <a:off x="5127480" y="4627440"/>
              <a:ext cx="95256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000000"/>
                  </a:solidFill>
                  <a:latin typeface="Arial"/>
                </a:rPr>
                <a:t>Sistema d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000000"/>
                  </a:solidFill>
                  <a:latin typeface="Arial"/>
                </a:rPr>
                <a:t>pagamen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213002"/>
            <p:cNvSpPr/>
            <p:nvPr/>
          </p:nvSpPr>
          <p:spPr>
            <a:xfrm>
              <a:off x="4000680" y="2676600"/>
              <a:ext cx="9522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000000"/>
                  </a:solidFill>
                  <a:latin typeface="Arial"/>
                </a:rPr>
                <a:t>Sector Fin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000000"/>
                  </a:solidFill>
                  <a:latin typeface="Arial"/>
                </a:rPr>
                <a:t>Instituições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PT" sz="1800" spc="-1" strike="noStrike">
                  <a:solidFill>
                    <a:srgbClr val="000000"/>
                  </a:solidFill>
                  <a:latin typeface="Arial"/>
                </a:rPr>
                <a:t>Mercado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Cronologia da evolução do Sistema Financeiro em Moçambique de 1985 a 2005 (1)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438280" y="1773360"/>
            <a:ext cx="6400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... 1985 – 198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 u="sng">
                <a:solidFill>
                  <a:srgbClr val="000000"/>
                </a:solidFill>
                <a:uFillTx/>
                <a:latin typeface="Arial"/>
              </a:rPr>
              <a:t>Período do Sistema Financeiro de Economia Centralmente Planific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Banco Central e Emissor com funções de principal banco comercial do paí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Banca integrada e monopólios do Estado sobre a actividade e as instituições de intermediação financeira doméstica e com o exterior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ada ou inexistente diversificação de instituições e de produtos financeir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ordinação da intermediação financeira ao Plano Estatal Central de cada an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as de juro e de câmbio, preços e comissões, fixos, determinados pelas autoridades governamentais – repressão financei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Cronologia da evolução do Sistema Financeiro em Moçambique de 1985 a 2005 (2)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484360" y="1628640"/>
            <a:ext cx="64008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.. 1985 – 198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Legislação/regulamentação de refer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Decreto 2/75, de 17 de Maio – Lei Orgânica do Banco de Moçamb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Decreto 13/75, de 21 de Junho – sobre a 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integração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do Departamento de Moçambique do BNU no B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viso do Banco de Moçambique, de 4 de Março de 1977, que define as bases para a fixação das taxas de câmbio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Lei 5/77, de 31 de Dezembro – sobre a 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integração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da CBM, BCCI e do BCA no B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Lei 6/77, de 31 de Dezembro – cria o BP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i 2/80, de 16 de Junho, cria o Metic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Cronologia da evolução do Sistema Financeiro em Moçambique de 1985 a 2005 (3)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438280" y="1989000"/>
            <a:ext cx="6400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1987 – 19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Período de Reforma do Sistema Financeiro no contexto do P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justamento das taxas de câmbi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justamento das taxas de jur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trolo quantitativo e selectivo do crédi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riação do Mercado Secundário de Câmbi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Estabelecimento do quadro normativo do exercício da actividade de intermediação financei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ação do INSS e do SN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Cronologia da evolução do Sistema Financeiro em Moçambique de 1985 a 2005 (4)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438280" y="1628640"/>
            <a:ext cx="64008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1991 – 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Período de reforma do Sistema Financeiro no contexto do PRES 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orma jurídico-leg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i 28/91 – regula a constituição e o funcionamento das IC’s – licenciamento e encerramento decididos pelo Governo (abertura do sector à iniciativa privada, nacional e estrangei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i 1/92 – define a natureza, os objectivos e as funções do BM como banco (exclusivamente) central do paí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i 3/96 – Lei cambial, define regras sobre operações cambiais e o comércio de câmbios, reforçando o papel do BM como Autoridade Cambial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i 5/98 – Lei da valorização do uso do cheque como meio de pag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Cronologia da evolução do Sistema Financeiro em Moçambique de 1985 a 2005 (5)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438280" y="1773000"/>
            <a:ext cx="6400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1991 – 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Período de reforma do Sistema Financeiro no contexto do PRES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orma jurídico-institucion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i 24/91 – Liberaliza a actividade seguradora e ressegurador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reto 3/92 – cria o BCM como corolário da separação de funções de banco comercial e de banco central dentro do B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reto 45/94 – regula o contrato de locação financeira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eas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reto 47/98 – regula o exercício de funções de crédito por pessoas singulares ou colectivas (microfinanç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reto 49/98 – cria a Bolsa de Valores de Moçambiqu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0:00Z</dcterms:created>
  <dc:creator>aabreu</dc:creator>
  <dc:description/>
  <dc:language>en-US</dc:language>
  <cp:lastModifiedBy>Ifb1</cp:lastModifiedBy>
  <dcterms:modified xsi:type="dcterms:W3CDTF">2005-11-01T14:28:30Z</dcterms:modified>
  <cp:revision>36</cp:revision>
  <dc:subject>Sistema Financeiro Moçambicano nos últimos 20 anos</dc:subject>
  <dc:title>Conferência no IFBM 28/10/2005 por Dr. António Pinto Abreu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  <property fmtid="{D5CDD505-2E9C-101B-9397-08002B2CF9AE}" pid="3" name="_AdHocReviewCycleID">
    <vt:r8>1526057135</vt:r8>
  </property>
  <property fmtid="{D5CDD505-2E9C-101B-9397-08002B2CF9AE}" pid="4" name="_AuthorEmail">
    <vt:lpwstr>antonio.abreu@bancomoc.mz</vt:lpwstr>
  </property>
  <property fmtid="{D5CDD505-2E9C-101B-9397-08002B2CF9AE}" pid="5" name="_AuthorEmailDisplayName">
    <vt:lpwstr>Antonio Pinto de Abreu</vt:lpwstr>
  </property>
  <property fmtid="{D5CDD505-2E9C-101B-9397-08002B2CF9AE}" pid="6" name="_EmailSubject">
    <vt:lpwstr>Minha palestra de hoje</vt:lpwstr>
  </property>
</Properties>
</file>