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865-A36F-4797-854E-39A8713C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9B8-3B76-4A6C-B841-E8F998C4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5396-D020-4F2B-BB14-7D26AE64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56E-88E2-4990-A249-D43224D7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9C55-C598-482A-95FA-6455B02F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FC08-2736-46E0-9229-49454211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3803-1B81-47B1-97C6-71A01F07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E45F-73E5-4746-82A3-929CAEF6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133F-ED7F-4C02-A592-7FA15567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6E92-AD87-41B6-AC41-5F68C5DA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B8B7-1E11-4792-9841-0D8A43DB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9DEF-618A-45C4-B993-F9FDCC68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0015-96D7-4CEB-94A1-16432BE9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CECA-C2B2-4337-9A7D-7FDB4F5D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5852-F594-421F-AF7E-137FECE0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6C28-8F68-44B5-87B1-A1B4A855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9E64-51C5-44FB-B61A-92E9C2FF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CF5C-DAB3-4C58-B33A-335A3902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B499-2DF3-4F6B-AC81-75F7694D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68C-DA3C-41AA-ABCC-43E3AE29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C3C-020B-4A1D-8FAD-5FEE2CEA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116-9FAF-434D-8A75-77ACB860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D67-BC00-4E2E-A949-7C04D0C3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658B-F2DA-4573-BCB4-E38C8842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EDD5-B898-465B-9725-4254D4F5FE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7CF2-B31D-4D66-97BB-CBF0EF1A05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ntonio.abreu@bancomoc.mz" TargetMode="External"/><Relationship Id="rId2" Type="http://schemas.openxmlformats.org/officeDocument/2006/relationships/hyperlink" Target="mailto:tobreutt@yahoo.com.brm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89000"/>
            <a:ext cx="7620120" cy="324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Moçambique: sistema financeiro nos últimos 20 anos – realidades e perspec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4076280"/>
            <a:ext cx="6400800" cy="180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ópicos para uma conversa com gestores bancários e diferentes agentes económicos no IFBM – 28/10/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Arial"/>
              </a:rPr>
              <a:t>António Pinto de Abr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antonio.abreu@bancomoc.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tobreutt@yahoo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Cronologia da evolução do Sistema Financeiro em Moçambique de 1985 a 2005 (6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916280"/>
            <a:ext cx="6400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1991 –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Período de reforma do Sistema Financeiro no contexto do PRES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a de instrumentos de polí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de Abril de 1992 – unificação entre as taxas de câmbio do mercado oficial e do MSC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beralização das taxas de câ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iso 6/GGBM/93 – determina taxas de juro máximas e mínimas fixadas administrativ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iso 9/GGBM/94 – liberaliza as taxas de juro activas e pass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iso 4/GGBM/96 – formaliza o Mercado Cambial Interbancário (M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iso 12/GGBM/97 – cria o Mercado Monetário Interbancário (M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o quantitativo do crédito através de limites de Activos Internos Líq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Cronologia da evolução do Sistema Financeiro em Moçambique de 1985 a 2005 (7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773000"/>
            <a:ext cx="6400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1999 –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Período de reforma do Sistema Financeiro no contexto do PARPA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rma jurídico-leg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 15/99 – Regula o estabelecimento e o exercício da actividade das instituições de crédito e das sociedades financeiras – preconiza a constituição do fundo de garantia de reembolso de de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to 48/2001 – regula a actividade dos auditores externos das IC’s e SF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 09/2004 – revê algumas das disposições da Lei 15/99, nomeadamente dando poderes ao BM para licenciar e mandar fechar IC’s e SF’s e permitindo a criação de novos tipos de instituições financi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Cronologia da evolução do Sistema Financeiro em Moçambique de 1985 a 2005 (8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28640"/>
            <a:ext cx="6400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1999 –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00"/>
                </a:solidFill>
                <a:uFillTx/>
                <a:latin typeface="Arial"/>
              </a:rPr>
              <a:t>Período de reforma do Sistema Financeiro no contexto do PARPA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orma jurídico-institu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to 54/99 – regula a constituição e o funcionamento dos fundos de investi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to 56/99 – regula a constituição e o funcionamento dos fundos de investimento de capital de ris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to 56/2004 – regula o funcionamento das instituições mirofinanceiras e da actividade de microfinanç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Cronologia da evolução do Sistema Financeiro em Moçambique de 1985 a 2005 (9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844280"/>
            <a:ext cx="6400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1999 –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Período de reforma do Sistema Financeiro no contexto do PARPA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rma de instrumentos de polít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– controlo da oferta monetária deixa de ser exercido através de limites quantitativos e passa a ser feito por via das operações de M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 – introduz-se o sistema multilateral de determinação das taxas de câmbio do MCI e de leilões de divis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 – controlo da oferta monetária passa a ser feito através da combinação entre operações do MMI e as do M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Cronologia da evolução do Sistema Financeiro em Moçambique de 1985 a 2005 (10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844280"/>
            <a:ext cx="6400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lgumas mudanças resultantes da reforma do sistema financei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ção da actividade de intermediação financeira e maior integração interna entre diferentes seg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ção ou eliminação do monopólio do estado no sector financ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ficação institucional e funcional do sector financ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or abertura do sector financeiro ao mercad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ção do sistema financ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Alguns Indicadores da realidade actual do Sistema Financeiro em Moçambique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ipo de institui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volução do número de institui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 geográf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as institu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as ATM´s e POS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mportância da intermediação financei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oeda sobre o P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rédito sobre o P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pósitos a prazo sobre total de mo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umerário em circ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drawingml/2006/table">
            <a:tbl>
              <a:tblPr/>
              <a:tblGrid>
                <a:gridCol w="2971800"/>
                <a:gridCol w="1219320"/>
                <a:gridCol w="1143000"/>
                <a:gridCol w="1218960"/>
                <a:gridCol w="1295640"/>
                <a:gridCol w="1218960"/>
              </a:tblGrid>
              <a:tr h="171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Instituições por ano seleccion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s comerciais e de investim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tivas de créd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es de microcréd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724280"/>
                <a:gridCol w="1600200"/>
                <a:gridCol w="1447920"/>
                <a:gridCol w="13716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 bancária por proví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uto (Cidade+provínci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mb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a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béz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pu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o Delg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as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49880" y="1143000"/>
            <a:ext cx="403848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4533840" y="2500200"/>
          <a:ext cx="3098880" cy="2759040"/>
        </p:xfrm>
        <a:graphic>
          <a:graphicData uri="http://schemas.openxmlformats.org/drawingml/2006/table">
            <a:tbl>
              <a:tblPr/>
              <a:tblGrid>
                <a:gridCol w="3098880"/>
              </a:tblGrid>
              <a:tr h="29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3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716440" y="3048120"/>
            <a:ext cx="1447920" cy="1066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932520" y="1752480"/>
            <a:ext cx="1600200" cy="917640"/>
          </a:xfrm>
          <a:prstGeom prst="rect">
            <a:avLst/>
          </a:prstGeom>
          <a:ln w="0">
            <a:noFill/>
          </a:ln>
        </p:spPr>
      </p:pic>
      <p:pic>
        <p:nvPicPr>
          <p:cNvPr id="129" name="BANCOG" descr=""/>
          <p:cNvPicPr/>
          <p:nvPr/>
        </p:nvPicPr>
        <p:blipFill>
          <a:blip r:embed="rId4"/>
          <a:stretch/>
        </p:blipFill>
        <p:spPr>
          <a:xfrm>
            <a:off x="5487840" y="4800600"/>
            <a:ext cx="95580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44000" cy="6950160"/>
        </p:xfrm>
        <a:graphic>
          <a:graphicData uri="http://schemas.openxmlformats.org/drawingml/2006/table">
            <a:tbl>
              <a:tblPr/>
              <a:tblGrid>
                <a:gridCol w="4267080"/>
                <a:gridCol w="2590920"/>
                <a:gridCol w="2286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s E POSs POR PROVÍNCIA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4-200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4-200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uto (Cidad+Provin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mb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a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béz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pu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o Delg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as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4008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8c0039"/>
                </a:solidFill>
                <a:latin typeface="Arial"/>
              </a:rPr>
              <a:t>Razões pelas quais aceitei preparar os tópicos para esta conversa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7920" y="1557000"/>
            <a:ext cx="3646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 Banco de Moçambique – a nossa autoridade monetária, financeira e cambial –  completou este ano 30 anos de exist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 evolução do sistema financeiro tem vindo a ser suficientemente documentada nos últimos an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Há relatórios periódicos do B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Há relatórios periódicos das IC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Há outras publicações e trabalhos sobre a maté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Existem estatísticas disponíveis para fazer interessantes estudos de caso e análises de séries temporais long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Nos últimos 20 anos, o sistema financeiro tem operado uma série de mudanças filosóficas e estruturais profundas que importa analisar e sintetis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Há desafios, presentes e futuros, para o sistema financeiro que urge equacionar e perspectivar, sobretudo entre nós bancá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5923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0" y="228600"/>
          <a:ext cx="914400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35164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8c0039"/>
                </a:solidFill>
                <a:latin typeface="Arial"/>
              </a:rPr>
              <a:t>Oferta monetária e creditícia sobre o PIB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68360" y="1413000"/>
          <a:ext cx="687564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413000"/>
                    <a:ext cx="687564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8c0039"/>
                </a:solidFill>
                <a:latin typeface="Arial"/>
              </a:rPr>
              <a:t>Desafios e perspectiva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solidação do STF e introdução do RT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va família do Me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rodução e implementação dos IFRS e dos 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argamento do sector financ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Diferenciação geográfica dos capitais míni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Diferenciação institucional dos capitais míni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erviços electrônic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xternalização de alguns serviços bancá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icrofinanças e estabilidade do sector financ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upervisão e Corporate Gover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Dolariz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●  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rcado Monetário/Mercado de Capitais e curvas de rendimento de mais   longo pr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profundamento das operações interbancárias do MMI e sobretudo do M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Instrumentos financeiros e a questão fi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s operações do Estado e a previsibilidade do volume de operações na B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solidação da transparência na concepção e implementação da política monet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egração regional e globa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-360"/>
            <a:ext cx="640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8c0039"/>
                </a:solidFill>
                <a:latin typeface="Arial"/>
              </a:rPr>
              <a:t>Bibliografi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907920"/>
            <a:ext cx="6400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Banco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de Moçambique,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Relatório Semestral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Junho de 2005, Departamento de Supervisão Bancária, Mapu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Cavaleiro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Adelaide,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A estabilidade do Sistema Financeiro e o Papel dos Bancos Centrais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Banco de Portugal, 24/09/2002, Departamento de Supervisão Bancária, Lisbo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De Abreu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António Pinto,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Sistema Financeiro em Moçambique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Revista Xitimela nº 7, Janeiro-Junho de 1999, CFM, Mapu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De Abreu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António Pinto e 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Baltazar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Ruy Affonso,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Uma leitura compreensiva das políticas cambial e de comércio externo em Moçambique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Revista Economia – 2ª Série, nº 5, Agosto de 1991, Mapu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De Abreu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Silvina Rodrigues,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O papel das taxas de juro em programas de ajustamento macroeconómico com restrições creditícias e mercado financeiro em processo de reforma: o caso moçambicano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Staff Paper nº 3, Banco de Moçambique, Junho de 1996, Mapu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De Sousa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Waldemar Fernando,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Contribuição para a análise do impacto da unificação cambial em Moçambique (Março/92-Março/93)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Staff Paper nº 2, Banco de Moçambique, Setembro de 1993, Mapu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Maleiane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Adriano Afonso,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Moçambique: as etapas da programação do crédito no contexto do programa de reabilitação económica e social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Staff Paper nº 6, Banco de Moçambique, Março de 1997, Mapu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Pimpão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Adelino Jeque,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Cronologia dos principais desenvolvimentos da política cambial em Moçambique: Junho de 1975 a Junho de 1996)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Staff Paper nº 4, Banco de Moçambique, Setembro de 1996, Mapu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8c0039"/>
                </a:solidFill>
                <a:latin typeface="Arial"/>
              </a:rPr>
              <a:t>Estrutura da apresentação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341000"/>
            <a:ext cx="6400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stema financei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uma síntese concep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nologia da evolução do Sistema Financeiro em Moçambique de 1985 a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s Indicadores da realidade actual do Sistema Financeiro em Moçambi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afios e persp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8c0039"/>
                </a:solidFill>
                <a:latin typeface="Arial"/>
              </a:rPr>
              <a:t>SISTEMA FINANCEIRO: uma síntese conceptual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470040" y="1670040"/>
            <a:ext cx="4267440" cy="4267440"/>
            <a:chOff x="3470040" y="1670040"/>
            <a:chExt cx="4267440" cy="4267440"/>
          </a:xfrm>
        </p:grpSpPr>
        <p:sp>
          <p:nvSpPr>
            <p:cNvPr id="95" name="_s212997"/>
            <p:cNvSpPr/>
            <p:nvPr/>
          </p:nvSpPr>
          <p:spPr>
            <a:xfrm>
              <a:off x="4041720" y="2241720"/>
              <a:ext cx="3124080" cy="31240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12998"/>
            <p:cNvSpPr/>
            <p:nvPr/>
          </p:nvSpPr>
          <p:spPr>
            <a:xfrm rot="7200000">
              <a:off x="4041360" y="2241720"/>
              <a:ext cx="3124080" cy="31240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12999"/>
            <p:cNvSpPr/>
            <p:nvPr/>
          </p:nvSpPr>
          <p:spPr>
            <a:xfrm rot="14400000">
              <a:off x="4041720" y="2241360"/>
              <a:ext cx="3124080" cy="31240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13000"/>
            <p:cNvSpPr/>
            <p:nvPr/>
          </p:nvSpPr>
          <p:spPr>
            <a:xfrm>
              <a:off x="6254640" y="2676600"/>
              <a:ext cx="95256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Autoridade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Políticas; Le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Regulam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13001"/>
            <p:cNvSpPr/>
            <p:nvPr/>
          </p:nvSpPr>
          <p:spPr>
            <a:xfrm>
              <a:off x="5127480" y="4627440"/>
              <a:ext cx="95256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Siste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pagam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13002"/>
            <p:cNvSpPr/>
            <p:nvPr/>
          </p:nvSpPr>
          <p:spPr>
            <a:xfrm>
              <a:off x="4000680" y="2676600"/>
              <a:ext cx="952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Sector Fi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Instituiçõe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Mercad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Cronologia da evolução do Sistema Financeiro em Moçambique de 1985 a 2005 (1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773360"/>
            <a:ext cx="6400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.. 1985 – 19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Período do Sistema Financeiro de Economia Centralmente Planif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Banco Central e Emissor com funções de principal banco comercial do paí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Banca integrada e monopólios do Estado sobre a actividade e as instituições de intermediação financeira doméstica e com o exterior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ada ou inexistente diversificação de instituições e de produtos financei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ção da intermediação financeira ao Plano Estatal Central de cada a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as de juro e de câmbio, preços e comissões, fixos, determinados pelas autoridades governamentais – repressão financ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Cronologia da evolução do Sistema Financeiro em Moçambique de 1985 a 2005 (2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84360" y="1628640"/>
            <a:ext cx="6400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 1985 – 19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Legislação/regulamentação de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creto 2/75, de 17 de Maio – Lei Orgânica do Banco de Moçamb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creto 13/75, de 21 de Junho – sobre a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integraçã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do Departamento de Moçambique do BNU no 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viso do Banco de Moçambique, de 4 de Março de 1977, que define as bases para a fixação das taxas de câmbio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ei 5/77, de 31 de Dezembro – sobre a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integraçã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da CBM, BCCI e do BCA no 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ei 6/77, de 31 de Dezembro – cria o B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 2/80, de 16 de Junho, cria o Metic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Cronologia da evolução do Sistema Financeiro em Moçambique de 1985 a 2005 (3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989000"/>
            <a:ext cx="6400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1987 –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Período de Reforma do Sistema Financeiro no contexto do P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justamento das taxas de câmb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justamento das taxas de jur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trolo quantitativo e selectivo do crédi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riação do Mercado Secundário de Câmb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tabelecimento do quadro normativo do exercício da actividade de intermediação financ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ação do INSS e do SN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Cronologia da evolução do Sistema Financeiro em Moçambique de 1985 a 2005 (4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28640"/>
            <a:ext cx="6400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1991 –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Período de reforma do Sistema Financeiro no contexto do PRES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rma jurídico-leg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 28/91 – regula a constituição e o funcionamento das IC’s – licenciamento e encerramento decididos pelo Governo (abertura do sector à iniciativa privada, nacional e estrangei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 1/92 – define a natureza, os objectivos e as funções do BM como banco (exclusivamente) central do paí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 3/96 – Lei cambial, define regras sobre operações cambiais e o comércio de câmbios, reforçando o papel do BM como Autoridade Cambia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 5/98 – Lei da valorização do uso do cheque como meio de pag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Cronologia da evolução do Sistema Financeiro em Moçambique de 1985 a 2005 (5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773000"/>
            <a:ext cx="6400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1991 –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Período de reforma do Sistema Financeiro no contexto do PRE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rma jurídico-instituc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 24/91 – Liberaliza a actividade seguradora e ressegurado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to 3/92 – cria o BCM como corolário da separação de funções de banco comercial e de banco central dentro do B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to 45/94 – regula o contrato de locação financeir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a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to 47/98 – regula o exercício de funções de crédito por pessoas singulares ou colectivas (microfinanç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to 49/98 – cria a Bolsa de Valores de Moçambiq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0:00Z</dcterms:created>
  <dc:creator>aabreu</dc:creator>
  <dc:description/>
  <dc:language>en-US</dc:language>
  <cp:lastModifiedBy>Ifb1</cp:lastModifiedBy>
  <dcterms:modified xsi:type="dcterms:W3CDTF">2005-11-01T14:28:30Z</dcterms:modified>
  <cp:revision>36</cp:revision>
  <dc:subject>Sistema Financeiro Moçambicano nos últimos 20 anos</dc:subject>
  <dc:title>Conferência no IFBM 28/10/2005 por Dr. António Pinto Abre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  <property fmtid="{D5CDD505-2E9C-101B-9397-08002B2CF9AE}" pid="3" name="_AdHocReviewCycleID">
    <vt:r8>1526057135</vt:r8>
  </property>
  <property fmtid="{D5CDD505-2E9C-101B-9397-08002B2CF9AE}" pid="4" name="_AuthorEmail">
    <vt:lpwstr>antonio.abreu@bancomoc.mz</vt:lpwstr>
  </property>
  <property fmtid="{D5CDD505-2E9C-101B-9397-08002B2CF9AE}" pid="5" name="_AuthorEmailDisplayName">
    <vt:lpwstr>Antonio Pinto de Abreu</vt:lpwstr>
  </property>
  <property fmtid="{D5CDD505-2E9C-101B-9397-08002B2CF9AE}" pid="6" name="_EmailSubject">
    <vt:lpwstr>Minha palestra de hoje</vt:lpwstr>
  </property>
</Properties>
</file>